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DD3B6-71A2-47D2-8833-D1708004E78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C7EA4-76BB-4336-81DC-3D11AB92C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houghts in medical commun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ological disorder in the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immune dis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 cluster of multiple chronic pain con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use to ac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08D75-0F4B-41DB-844F-9C9403F46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3%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 FM patients, 35 non FM pat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ere exposed to painful pressure and non painful visual, auditory and tactile c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 demonstrated greater neurologic pain signature response when exposed to same painful stimu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3 sub markers which correlated to hypersensitivity to pain characterized by the con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help place people into subtypes and provide individualized trea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0046A-613F-4C11-9F51-E4ADBE357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every fibromyalgia experience is different, these common themes and feelings emer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724A7-31B1-47D2-B22C-266B4CB36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790F4-340C-4C36-85C9-EF8CBC63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around and talk about exper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79CDF-430C-48FB-A9A6-8C98D4B5E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stration for people with fibromyalgia:  typical treatment is ineff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stration for medical professionals: they want to help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CE0D9-B369-43F7-8255-7A5A4EEBD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 out 60 Day Action Pla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D1D4B-1979-4493-819D-2A7D11E44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6B3-4D9D-4B83-A136-7704C727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5CC-0AC8-4100-ABA7-C64334DA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6E2-54D8-4088-85AA-4ED38D19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38B-B800-4DEF-BE86-D964B7B2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CED-9814-4424-81E1-D56DDB52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21C-30FF-49F8-A40C-0E24A6DC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F40-2E38-4FE1-BE17-A85E7672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BD1-BB3F-46C4-814B-01847F17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C45-209E-42EF-86C7-8F9ACF6B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F9F-668B-40CA-B58B-58330BBA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CE9-1054-49B0-92B5-A0CF65E4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D36-DC3E-4233-BF9C-B5DDB673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8156F-B09C-4A77-8739-C300304165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05A4E-8E0A-415C-B3BF-F20AB43F8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4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cine’s ‘F’ Word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: </a:t>
            </a:r>
            <a:br>
              <a:rPr sz="4400"/>
            </a:b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-stigmatizing and Advocating for Fibromyal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51160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auren Brill, Student Physical Therap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orthern Arizona University Physical Therap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125360" y="2060640"/>
            <a:ext cx="7032960" cy="3273480"/>
          </a:xfrm>
          <a:prstGeom prst="rect">
            <a:avLst/>
          </a:prstGeom>
          <a:ln w="9360">
            <a:solidFill>
              <a:srgbClr val="ffffff">
                <a:alpha val="91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) Visit a Doctor of Osteopathic Medicine (D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le person”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just specific symp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teopathic manipulative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nds- on treatment to care for musculoskeletal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10" descr=""/>
          <p:cNvPicPr/>
          <p:nvPr/>
        </p:nvPicPr>
        <p:blipFill>
          <a:blip r:embed="rId1"/>
          <a:srcRect l="0" t="-26822" r="0" b="-26822"/>
          <a:stretch/>
        </p:blipFill>
        <p:spPr>
          <a:xfrm>
            <a:off x="4888080" y="1770120"/>
            <a:ext cx="40384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760" y="274320"/>
            <a:ext cx="872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) Create an exercise program with your Physical Therap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834920"/>
            <a:ext cx="82296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erts on the musculoskeletal system and human mo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prescribe an individualized exercise progr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898640" y="3740040"/>
            <a:ext cx="49719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4760" y="274680"/>
            <a:ext cx="848196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558ed5"/>
                </a:solidFill>
                <a:latin typeface="Calibri"/>
              </a:rPr>
              <a:t>…</a:t>
            </a:r>
            <a:r>
              <a:rPr b="1" lang="en-US" sz="4800" spc="-1" strike="noStrike">
                <a:solidFill>
                  <a:srgbClr val="558ed5"/>
                </a:solidFill>
                <a:latin typeface="Calibri"/>
              </a:rPr>
              <a:t>but most importantly, choose the </a:t>
            </a:r>
            <a:r>
              <a:rPr b="1" i="1" lang="en-US" sz="4800" spc="-1" strike="noStrike">
                <a:solidFill>
                  <a:srgbClr val="17375e"/>
                </a:solidFill>
                <a:latin typeface="Calibri"/>
              </a:rPr>
              <a:t>right</a:t>
            </a:r>
            <a:r>
              <a:rPr b="1" i="1" lang="en-US" sz="4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558ed5"/>
                </a:solidFill>
                <a:latin typeface="Calibri"/>
              </a:rPr>
              <a:t>practitioner for </a:t>
            </a:r>
            <a:r>
              <a:rPr b="1" i="1" lang="en-US" sz="4800" spc="-1" strike="noStrike">
                <a:solidFill>
                  <a:srgbClr val="17375e"/>
                </a:solidFill>
                <a:latin typeface="Calibri"/>
              </a:rPr>
              <a:t>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oosing the right practiti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one wh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eciates that you know your body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open to new suggestions and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s you and your condition serious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>
            <a:alphaModFix amt="96000"/>
          </a:blip>
          <a:stretch/>
        </p:blipFill>
        <p:spPr>
          <a:xfrm>
            <a:off x="4657680" y="1600200"/>
            <a:ext cx="4233960" cy="4764240"/>
          </a:xfrm>
          <a:prstGeom prst="rect">
            <a:avLst/>
          </a:prstGeom>
          <a:ln w="9360">
            <a:solidFill>
              <a:srgbClr val="000000">
                <a:alpha val="89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Adding to your Arsenal</a:t>
            </a:r>
            <a:br>
              <a:rPr sz="5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urrent Fibromyalgia Resear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26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U Boulder and the fibromyalgia “brain signature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ttp://www.colorado.edu/today/2016/10/17/neural-signature-fibromyalgia-may-aid-diagnosis-treat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ree neurological patterns that correlate to hypersensitivity to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just treatment selection on individualized ba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cognizing the individuality  of suff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mproving on established clinical procedure for more effective trea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083040" y="4724280"/>
            <a:ext cx="4087800" cy="1827360"/>
          </a:xfrm>
          <a:prstGeom prst="rect">
            <a:avLst/>
          </a:prstGeom>
          <a:ln w="9360">
            <a:solidFill>
              <a:srgbClr val="ffffff">
                <a:alpha val="89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ff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0960" y="274320"/>
            <a:ext cx="8722080" cy="16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ópez-Solà, M. et el. (2014)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ltered Functional Magnetic Resonance Imaging Responses to Nonpainful Sensory Stimulation in Fibromyalgia Patients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rthritis &amp; Rheumatology, 66: 3200–3209. doi:10.1002/art.3878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144520"/>
            <a:ext cx="822960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ding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with fibromyalgia are hypersensitive to everyday sensory stim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reased response in visual and auditory re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ed central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activity in sensory integration re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t mea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tential for novel targets for neurostimulation trea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lternative Medici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88760"/>
            <a:ext cx="45864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Cannabis Sc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Pain relief in people with fibromyalgia and diabetic neuropathy pai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Transdermal adhesive patches with high potency cannabinoid extra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Anti-inflammatory and pain- relieving properties with no known psychoactive eff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Slowly enters bloodstream then penetrates CNS for pain relie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514840" y="2276640"/>
            <a:ext cx="317196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6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opular Fibromyalgia Blo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101680"/>
            <a:ext cx="403848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hronic M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hronicles of Fibromyalg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unting My Spo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ranky Fibro Gir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ed up with Fatig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bro and Fabulo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bro Dai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FibroFr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2101680"/>
            <a:ext cx="403848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finite Daz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Learning to Balance Life Chan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y Foggy Br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ainfully Aw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eking Equilibri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149800" y="1417680"/>
            <a:ext cx="3246480" cy="2033640"/>
          </a:xfrm>
          <a:prstGeom prst="rect">
            <a:avLst/>
          </a:prstGeom>
          <a:ln w="12600">
            <a:solidFill>
              <a:srgbClr val="ffffff">
                <a:alpha val="64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onlinelibrary.wiley.com/doi/10.1002/art.38781/abs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colorado.edu/today/2016/10/17/neural-signature-fibromyalgia-may-aid-diagnosis-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osteopathic.org/osteopathic-health/about-your-health/health-conditions-library/fibromyalgia/Pages/is-it-fibro-tip-sheet.asp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66840" y="719280"/>
            <a:ext cx="3652560" cy="206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66840" y="3697200"/>
            <a:ext cx="843588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5418000" y="210960"/>
            <a:ext cx="29210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56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Calibri"/>
              </a:rPr>
              <a:t>Fibromyalgia: </a:t>
            </a:r>
            <a:br>
              <a:rPr sz="5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laining it to your loved 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004920"/>
            <a:ext cx="822960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youtube.com/watch?v=hBcfhpwCOW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920" y="1974960"/>
            <a:ext cx="8763120" cy="22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What has your experience been like with healthcare professional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34440" y="885960"/>
            <a:ext cx="85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Fibromyalgia Cause- Medical Viewpoints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rological disorder in the b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utoimmune dis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mptom cluster of multiple chronic pain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fuse to acce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TIP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 your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alyze your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t a Doctor of Osteopathic medicine (D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eate an exercise program with your Physical Therap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1) Understand Your Symp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Identify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your symptoms. These may includ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tig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idespread 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iculty concent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 waking refre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Record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your sympto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(severity, irritability, nature, stage, stability): SIN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e the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you’re doing when they occ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5518080" y="2370240"/>
            <a:ext cx="2562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Calibri"/>
              </a:rPr>
              <a:t>60 Day Action Plan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469960"/>
            <a:ext cx="822960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osteopathic.org/osteopathic-health/about-your-health/health-conditions-library/fibromyalgia/Documents/fibro-60-day-action-plan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 Analyze your life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2144520"/>
            <a:ext cx="76662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e impact of symptoms on daily li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ord exercise rout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 all medications/ therap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 into current research and treatment options avail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299280" y="1628640"/>
            <a:ext cx="25905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00:17:16Z</dcterms:created>
  <dc:creator>Lauren Brill</dc:creator>
  <dc:description/>
  <dc:language>en-US</dc:language>
  <cp:lastModifiedBy>Lorie M Kroneberger</cp:lastModifiedBy>
  <dcterms:modified xsi:type="dcterms:W3CDTF">2017-01-04T16:58:10Z</dcterms:modified>
  <cp:revision>32</cp:revision>
  <dc:subject/>
  <dc:title>Slide 1</dc:title>
</cp:coreProperties>
</file>